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91B1-37B2-4D66-87B8-4865B1BE2B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6321-761C-41DC-AA2E-AFDF5F767453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E36E-E4FA-47D0-9C75-F85F391718BC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9B3B-F0D5-497C-84B9-3CF579FF0047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0990-9857-4373-9341-9FCC937006A3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D1E0-A016-404F-B7A7-801239CD8550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6C9F-0219-4068-BBA2-D808B03AE503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DA5E-C953-49C2-889C-0416BF919AC2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009A-FE4E-4D53-8581-A7D418F6E027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2BDA-C754-431B-B012-F2BCF360A686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0816-E90F-4A0B-A904-FFBE27BA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848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3DD6-0494-4490-859D-99459EC4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602-CF14-4615-80A9-9E687EC3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6765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6765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848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848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848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6EFA-EAEB-44E7-991F-CA959E2E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D69F-E0E8-4F3B-B519-7AD9A9D2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8E38-8B7F-4F80-8A7E-9BDB8169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D24B-A10B-4D92-9B95-FF3E4C4B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3330-21FF-4F8F-A75D-E752621D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E34B-6799-4EBA-9BAB-B96F7848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2286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0E5E-7038-458E-9BC3-23484BDD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270D-3D95-4375-ACA5-67FD43A2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3009-A992-4318-9391-3D0A3075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FB90-FCFC-423D-9A8D-1C3710F3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848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574F-E1A7-4FB0-AF05-7E8D2275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848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F983-4BE5-4939-8C3B-C75D5C0B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71C2-2DA6-43CD-977D-D9D83289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6765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6765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848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848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848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9B0D-309D-4F22-817B-49116D82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0A36-4574-426F-B836-60B2BECC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34FA-D858-49F2-90A5-CEC4C91D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75D0-5A3E-4ACF-BB3B-3E8B8208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2286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BF4C-784D-497F-BAC8-C55CB165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61B9-8736-4D33-B6E3-ADFD3D0F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4BE2-12DC-461D-9794-B3B6AF26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848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7CE2-2E93-4243-B714-308A99C3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Rectangle 3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9240" indent="-30996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8560" indent="-3085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06720" indent="-27936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23240" indent="-265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66040" indent="-2595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66040" indent="-2595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66040" indent="-2595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189C-438B-436E-9A44-0634086CE1DB}" type="slidenum">
              <a:rPr b="0" lang="fr-FR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71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Rectangle 3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36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37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40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41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42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44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45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46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50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53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54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55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56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57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58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59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60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64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Freeform 70"/>
          <p:cNvSpPr/>
          <p:nvPr/>
        </p:nvSpPr>
        <p:spPr>
          <a:xfrm rot="16200000">
            <a:off x="3871080" y="1005120"/>
            <a:ext cx="150840" cy="48452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2240" indent="-2887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3480" indent="-2872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24640" indent="-26028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2360" indent="-247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C322-4038-4B04-B5F3-136E5FECE5C5}" type="slidenum"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Arial"/>
              </a:rPr>
              <a:t>Neuroénergétiqu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04920" y="38862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400" spc="-1" strike="noStrike">
                <a:solidFill>
                  <a:srgbClr val="ffffff"/>
                </a:solidFill>
                <a:latin typeface="Arial"/>
              </a:rPr>
              <a:t>Etudiante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Idrizi Elita, Tscherrig Jennifer, Pattaroni C</a:t>
            </a: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400" spc="-1" strike="noStrike">
                <a:solidFill>
                  <a:srgbClr val="ffffff"/>
                </a:solidFill>
                <a:latin typeface="Arial"/>
              </a:rPr>
              <a:t>Superviseur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Aitana Morton de Lachapelle, Pellerin Lu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1690560" y="1868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Glucose - Barr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01600" indent="-53316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Vue génér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3316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Métabolisme du glucose dans les neur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3316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Transport du glucose dans les neur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3316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Résult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3316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Vue généra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90b"/>
                </a:solidFill>
                <a:latin typeface="Arial"/>
              </a:rPr>
              <a:t>Ge+T      [GeT]      [GnT]      Gn+T+E      [GnE]     Gn*+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000" spc="-1" strike="noStrike">
                <a:solidFill>
                  <a:srgbClr val="fff90b"/>
                </a:solidFill>
                <a:latin typeface="Arial"/>
              </a:rPr>
              <a:t>k</a:t>
            </a:r>
            <a:r>
              <a:rPr b="0" lang="fr-FR" sz="1000" spc="-1" strike="noStrike" baseline="-25000">
                <a:solidFill>
                  <a:srgbClr val="fff90b"/>
                </a:solidFill>
                <a:latin typeface="Arial"/>
              </a:rPr>
              <a:t>1</a:t>
            </a:r>
            <a:r>
              <a:rPr b="0" lang="fr-FR" sz="1000" spc="-1" strike="noStrike">
                <a:solidFill>
                  <a:srgbClr val="fff90b"/>
                </a:solidFill>
                <a:latin typeface="Arial"/>
              </a:rPr>
              <a:t>, k</a:t>
            </a:r>
            <a:r>
              <a:rPr b="0" lang="fr-FR" sz="1000" spc="-1" strike="noStrike" baseline="-25000">
                <a:solidFill>
                  <a:srgbClr val="fff90b"/>
                </a:solidFill>
                <a:latin typeface="Arial"/>
              </a:rPr>
              <a:t>-1</a:t>
            </a:r>
            <a:r>
              <a:rPr b="0" lang="fr-FR" sz="1000" spc="-1" strike="noStrike">
                <a:solidFill>
                  <a:srgbClr val="fff90b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fff90b"/>
                </a:solidFill>
                <a:latin typeface="Arial"/>
              </a:rPr>
              <a:t>             k</a:t>
            </a:r>
            <a:r>
              <a:rPr b="0" lang="fr-FR" sz="1000" spc="-1" strike="noStrike" baseline="-25000">
                <a:solidFill>
                  <a:srgbClr val="fff90b"/>
                </a:solidFill>
                <a:latin typeface="Arial"/>
              </a:rPr>
              <a:t>2</a:t>
            </a:r>
            <a:r>
              <a:rPr b="0" lang="fr-FR" sz="1000" spc="-1" strike="noStrike">
                <a:solidFill>
                  <a:srgbClr val="fff90b"/>
                </a:solidFill>
                <a:latin typeface="Arial"/>
              </a:rPr>
              <a:t>, k</a:t>
            </a:r>
            <a:r>
              <a:rPr b="0" lang="fr-FR" sz="1000" spc="-1" strike="noStrike" baseline="-25000">
                <a:solidFill>
                  <a:srgbClr val="fff90b"/>
                </a:solidFill>
                <a:latin typeface="Arial"/>
              </a:rPr>
              <a:t>-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ff"/>
                </a:solidFill>
                <a:latin typeface="Arial"/>
              </a:rPr>
              <a:t>Exemple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[GeT]/dt = k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* Ge * T - k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Arial"/>
              </a:rPr>
              <a:t>-1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* [GeT] - k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* [GeT] + k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Arial"/>
              </a:rPr>
              <a:t>-2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* [GnT]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4"/>
          <p:cNvSpPr/>
          <p:nvPr/>
        </p:nvSpPr>
        <p:spPr>
          <a:xfrm>
            <a:off x="160020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2895480" y="22096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4140360" y="22050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5796000" y="22050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10"/>
          <p:cNvSpPr/>
          <p:nvPr/>
        </p:nvSpPr>
        <p:spPr>
          <a:xfrm>
            <a:off x="7162920" y="22096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Object 12"/>
          <p:cNvGraphicFramePr/>
          <p:nvPr/>
        </p:nvGraphicFramePr>
        <p:xfrm>
          <a:off x="1447920" y="2133720"/>
          <a:ext cx="6095880" cy="121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133720"/>
                    <a:ext cx="6095880" cy="12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Line 13"/>
          <p:cNvSpPr/>
          <p:nvPr/>
        </p:nvSpPr>
        <p:spPr>
          <a:xfrm>
            <a:off x="1447920" y="4038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14"/>
          <p:cNvSpPr/>
          <p:nvPr/>
        </p:nvSpPr>
        <p:spPr>
          <a:xfrm>
            <a:off x="2743200" y="4038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15"/>
          <p:cNvSpPr/>
          <p:nvPr/>
        </p:nvSpPr>
        <p:spPr>
          <a:xfrm>
            <a:off x="4038480" y="40384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16"/>
          <p:cNvSpPr/>
          <p:nvPr/>
        </p:nvSpPr>
        <p:spPr>
          <a:xfrm>
            <a:off x="5638680" y="40384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7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1) </a:t>
            </a:r>
            <a:r>
              <a:rPr b="0" lang="fr-FR" sz="4000" spc="-1" strike="noStrike">
                <a:solidFill>
                  <a:srgbClr val="99cc00"/>
                </a:solidFill>
                <a:latin typeface="Arial"/>
              </a:rPr>
              <a:t>Métabolis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8572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0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90b"/>
                </a:solidFill>
                <a:latin typeface="Arial"/>
              </a:rPr>
              <a:t>Gn+H       [GnH]     </a:t>
            </a:r>
            <a:r>
              <a:rPr b="0" lang="fr-CH" sz="2400" spc="-1" strike="noStrike">
                <a:solidFill>
                  <a:srgbClr val="fff90b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90b"/>
                </a:solidFill>
                <a:latin typeface="Arial"/>
              </a:rPr>
              <a:t>Gn*+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90b"/>
                </a:solidFill>
                <a:latin typeface="Arial"/>
              </a:rPr>
              <a:t>                    </a:t>
            </a:r>
            <a:r>
              <a:rPr b="0" lang="fr-CH" sz="1200" spc="-1" strike="noStrike">
                <a:solidFill>
                  <a:srgbClr val="fff90b"/>
                </a:solidFill>
                <a:latin typeface="Arial"/>
              </a:rPr>
              <a:t>k1, k-1                         k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08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08240" indent="-317160">
              <a:lnSpc>
                <a:spcPct val="125000"/>
              </a:lnSpc>
              <a:spcBef>
                <a:spcPts val="601"/>
              </a:spcBef>
              <a:buClr>
                <a:srgbClr val="96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Hypothèse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24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Hypothèse de pré-équilibre :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équilibration rapide de Gn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824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Hypothèse de concentration totale d’</a:t>
            </a:r>
            <a:r>
              <a:rPr b="1" lang="fr-CH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xokinase :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fr-FR" sz="1800" spc="-1" strike="noStrike" baseline="30000">
                <a:solidFill>
                  <a:srgbClr val="ffffff"/>
                </a:solidFill>
                <a:latin typeface="Arial"/>
              </a:rPr>
              <a:t>to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= H+[GnH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824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Vitesse max atteinte lorsque toutes les enzymes sont liées au Glc :</a:t>
            </a:r>
            <a:r>
              <a:rPr b="1" lang="fr-CH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= 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*H</a:t>
            </a:r>
            <a:r>
              <a:rPr b="0" lang="fr-FR" sz="1800" spc="-1" strike="noStrike" baseline="30000">
                <a:solidFill>
                  <a:srgbClr val="ffffff"/>
                </a:solidFill>
                <a:latin typeface="Arial"/>
              </a:rPr>
              <a:t>to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824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-M constant : 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= (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+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-1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)/ k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824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8240" indent="-317160">
              <a:lnSpc>
                <a:spcPct val="125000"/>
              </a:lnSpc>
              <a:spcBef>
                <a:spcPts val="601"/>
              </a:spcBef>
              <a:buClr>
                <a:srgbClr val="96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olutio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24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fr-FR" sz="18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= (Gn*V</a:t>
            </a:r>
            <a:r>
              <a:rPr b="1" lang="fr-FR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)/(Gn+K</a:t>
            </a:r>
            <a:r>
              <a:rPr b="1" lang="fr-FR" sz="18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fr-CH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CH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fr-CH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rreversible Michaelis-Menten kine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824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3048120" y="22096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8"/>
          <p:cNvSpPr/>
          <p:nvPr/>
        </p:nvSpPr>
        <p:spPr>
          <a:xfrm>
            <a:off x="16765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2) </a:t>
            </a:r>
            <a:r>
              <a:rPr b="0" lang="fr-FR" sz="4000" spc="-1" strike="noStrike">
                <a:solidFill>
                  <a:srgbClr val="99cc00"/>
                </a:solidFill>
                <a:latin typeface="Arial"/>
              </a:rPr>
              <a:t>Transpo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1915920"/>
            <a:ext cx="84582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0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90b"/>
                </a:solidFill>
                <a:latin typeface="Arial"/>
              </a:rPr>
              <a:t>Ge+T       [GeT]       [GnT]       Gn+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fr-CH" sz="1200" spc="-1" strike="noStrike">
                <a:solidFill>
                  <a:srgbClr val="fff90b"/>
                </a:solidFill>
                <a:latin typeface="Arial"/>
              </a:rPr>
              <a:t>k1, k-1                 k2, k-2                 k3, k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Hypothèse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Hypothèse de pré-équilibre: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équilibration rapide de GeT, G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Hypothèse de la vitesse de transport: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dissociation de GeT et GnT plus rapide que transport (reversible Michaelis-Menten kinetic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onstantes de dissociation : 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=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-1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/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and 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=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/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-3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Hypothèse de la concentration totale de GLUT 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fr-FR" sz="1600" spc="-1" strike="noStrike" baseline="30000">
                <a:solidFill>
                  <a:srgbClr val="ffffff"/>
                </a:solidFill>
                <a:latin typeface="Arial"/>
              </a:rPr>
              <a:t>tot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= T + [GeT] + [GnT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Vitesse max de transport de Glc vers l’intérieur et vers extérieur du neurone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maxIN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= 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*T</a:t>
            </a:r>
            <a:r>
              <a:rPr b="0" lang="fr-FR" sz="1600" spc="-1" strike="noStrike" baseline="30000">
                <a:solidFill>
                  <a:srgbClr val="ffffff"/>
                </a:solidFill>
                <a:latin typeface="Arial"/>
              </a:rPr>
              <a:t>tot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and V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maxOUT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= 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-2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*T</a:t>
            </a:r>
            <a:r>
              <a:rPr b="0" lang="fr-FR" sz="1600" spc="-1" strike="noStrike" baseline="30000">
                <a:solidFill>
                  <a:srgbClr val="ffffff"/>
                </a:solidFill>
                <a:latin typeface="Arial"/>
              </a:rPr>
              <a:t>t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olution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= 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*[GeT] </a:t>
            </a: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-2*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[GnT] =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(V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maxIN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*(Ge/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) - V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maxOUT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*(Gn/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))/(1+(Ge/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)+(Gn/k</a:t>
            </a:r>
            <a:r>
              <a:rPr b="0" lang="fr-FR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1371600" y="2133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2514600" y="2133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3657600" y="2133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cc00"/>
                </a:solidFill>
                <a:latin typeface="Arial"/>
              </a:rPr>
              <a:t>Résultats (Matlab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33520" y="1501920"/>
            <a:ext cx="815328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Résultats de </a:t>
            </a:r>
            <a:r>
              <a:rPr b="0" i="1" lang="fr-CH" sz="4000" spc="-1" strike="noStrike">
                <a:solidFill>
                  <a:srgbClr val="99cc00"/>
                </a:solidFill>
                <a:latin typeface="Arial"/>
              </a:rPr>
              <a:t>Barros et 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5" descr="0"/>
          <p:cNvPicPr/>
          <p:nvPr/>
        </p:nvPicPr>
        <p:blipFill>
          <a:blip r:embed="rId1"/>
          <a:stretch/>
        </p:blipFill>
        <p:spPr>
          <a:xfrm>
            <a:off x="685800" y="1484280"/>
            <a:ext cx="8001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Conclusions gluco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71680" y="1676520"/>
            <a:ext cx="8191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668520" indent="-5731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Transport et métabolisme sont limi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85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Augmentation du transport et du métabolisme en parallèle pour augmenter le fl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85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8520" indent="-5731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Helvetic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Prédictions et limitations du modè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8080" y="25909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Projet sur le lactat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Lact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01600" indent="-53316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Vue génér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3316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Mise en place du modèle neur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3316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Modèle et éq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3316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Résolution numériq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3316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Vue généra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71680" y="1676520"/>
            <a:ext cx="3924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90b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f90b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f90b"/>
                </a:solidFill>
                <a:latin typeface="Arial"/>
              </a:rPr>
              <a:t>	</a:t>
            </a:r>
            <a:r>
              <a:rPr b="0" lang="fr-CH" sz="2000" spc="-1" strike="noStrike">
                <a:solidFill>
                  <a:srgbClr val="fff90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e65224"/>
                </a:solidFill>
                <a:latin typeface="Arial"/>
              </a:rPr>
              <a:t>         </a:t>
            </a:r>
            <a:r>
              <a:rPr b="0" lang="fr-CH" sz="1600" spc="-1" strike="noStrike">
                <a:solidFill>
                  <a:srgbClr val="e65224"/>
                </a:solidFill>
                <a:latin typeface="Arial"/>
              </a:rPr>
              <a:t>Neur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Modèl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90b"/>
                </a:solidFill>
                <a:latin typeface="Arial"/>
              </a:rPr>
              <a:t>Le+MCT      [LeMCT]       Ln+MCT+LDH     [LnLDH]     P+LDH+PDH     [PPDH]      A+PD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8" name="Rectangle 67"/>
          <p:cNvGraphicFramePr/>
          <p:nvPr/>
        </p:nvGraphicFramePr>
        <p:xfrm>
          <a:off x="2133720" y="1143000"/>
          <a:ext cx="6210360" cy="19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Rectangle 6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143000"/>
                    <a:ext cx="621036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Line 13"/>
          <p:cNvSpPr/>
          <p:nvPr/>
        </p:nvSpPr>
        <p:spPr>
          <a:xfrm>
            <a:off x="2209680" y="50292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5105520" y="5410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3"/>
          <p:cNvSpPr/>
          <p:nvPr/>
        </p:nvSpPr>
        <p:spPr>
          <a:xfrm>
            <a:off x="7238880" y="49528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50292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14600" y="5410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781680" y="5410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6" name="Rectangle 67"/>
          <p:cNvGraphicFramePr/>
          <p:nvPr/>
        </p:nvGraphicFramePr>
        <p:xfrm>
          <a:off x="228600" y="4114800"/>
          <a:ext cx="8915400" cy="25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Rectangle 6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14800"/>
                    <a:ext cx="891540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Thème du proj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ff"/>
                </a:solidFill>
                <a:latin typeface="Arial"/>
              </a:rPr>
              <a:t>L’importance du transport et du métabolisme pour la régulation d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ff"/>
                </a:solidFill>
                <a:latin typeface="Arial"/>
              </a:rPr>
              <a:t>flux de substrats énergétiques dans les cellules du cervea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1690560" y="1868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23924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Mise en place du modèle neur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97240" indent="-51192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éfinir les composantes importantes du problè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1192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Déterminer les processus biologiques-chimiques-physiques qui entrent en jeu dans notre modè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1192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Ecrire les équations différentielles reliant ces compos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1192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Effectuer des prédi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99cc00"/>
                </a:solidFill>
                <a:latin typeface="Arial"/>
              </a:rPr>
              <a:t>Façons de poser et résoudre un problè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713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Arial"/>
              </a:rPr>
              <a:t>Explicite 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beaucoup d’équations et de 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paramètres, donc risque 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d’over-fitting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90b"/>
                </a:solidFill>
                <a:latin typeface="Arial"/>
              </a:rPr>
              <a:t>Implicite </a:t>
            </a: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: </a:t>
            </a: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simplification du </a:t>
            </a: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phénomè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Equations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7560" indent="-285120">
              <a:lnSpc>
                <a:spcPct val="16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dLe/dt = [LeMCT]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- Le*MCT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6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d[LeMCT]/dt = Le*MCT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- [LeMCT]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– [LeMCT]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6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dLn/dt = [LeMCT]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+ [LnLDH]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– Ln*LDH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6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d[LnLDH]/dt = Ln*LDH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- [LnLDH]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- [LnLDH]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6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dP/dt = [LnLDH]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– P*PDH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+[PPDH]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6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d[PPDH]/dt = P*PDH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– [PPDH]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-[PPDH]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6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dA/dt = [PPDH]*k</a:t>
            </a:r>
            <a:r>
              <a:rPr b="0" lang="fr-CH" sz="2400" spc="-1" strike="noStrike" baseline="-25000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73880" y="422280"/>
            <a:ext cx="45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Le  </a:t>
            </a:r>
            <a:r>
              <a:rPr b="0" lang="fr-CH" sz="3200" spc="-1" strike="noStrike">
                <a:solidFill>
                  <a:srgbClr val="fff90b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 Ln </a:t>
            </a:r>
            <a:r>
              <a:rPr b="0" lang="fr-CH" sz="3200" spc="-1" strike="noStrike">
                <a:solidFill>
                  <a:srgbClr val="fff90b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 P </a:t>
            </a:r>
            <a:r>
              <a:rPr b="0" lang="fr-CH" sz="3200" spc="-1" strike="noStrike">
                <a:solidFill>
                  <a:srgbClr val="fff90b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Résultats : </a:t>
            </a:r>
            <a:r>
              <a:rPr b="0" lang="fr-CH" sz="4000" spc="-1" strike="noStrike">
                <a:solidFill>
                  <a:srgbClr val="fff90b"/>
                </a:solidFill>
                <a:latin typeface="Arial"/>
              </a:rPr>
              <a:t>Evolution dans le tem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6" name="Rectangle 67"/>
          <p:cNvGraphicFramePr/>
          <p:nvPr/>
        </p:nvGraphicFramePr>
        <p:xfrm>
          <a:off x="0" y="106668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Rectangle 6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99cc00"/>
                </a:solidFill>
                <a:latin typeface="Arial"/>
              </a:rPr>
              <a:t>Résultats : </a:t>
            </a:r>
            <a:r>
              <a:rPr b="0" lang="fr-CH" sz="3600" spc="-1" strike="noStrike">
                <a:solidFill>
                  <a:srgbClr val="fff90b"/>
                </a:solidFill>
                <a:latin typeface="Arial"/>
              </a:rPr>
              <a:t>Transport et métabolis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9" name="Rectangle 67"/>
          <p:cNvGraphicFramePr/>
          <p:nvPr/>
        </p:nvGraphicFramePr>
        <p:xfrm>
          <a:off x="228600" y="1536840"/>
          <a:ext cx="8763120" cy="53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Rectangle 6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36840"/>
                    <a:ext cx="876312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152280" y="1384200"/>
          <a:ext cx="8991720" cy="547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384200"/>
                    <a:ext cx="899172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Conclusions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11360" indent="-6098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Seul le transport est limi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Augmentation du flux seulement si augmentation du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11760" y="38088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90b"/>
                </a:solidFill>
                <a:latin typeface="Arial"/>
              </a:rPr>
              <a:t> </a:t>
            </a:r>
            <a:r>
              <a:rPr b="0" lang="fr-CH" sz="3600" spc="-1" strike="noStrike">
                <a:solidFill>
                  <a:srgbClr val="fff90b"/>
                </a:solidFill>
                <a:latin typeface="Arial"/>
              </a:rPr>
              <a:t>Interpré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32004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Conclusions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3314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2920" indent="-3204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ncentration de lactate extracellulaire const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ff"/>
                </a:solidFill>
                <a:latin typeface="Arial"/>
              </a:rPr>
              <a:t>Rapport NADH/N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ff"/>
                </a:solidFill>
                <a:latin typeface="Arial"/>
              </a:rPr>
              <a:t>Cinétique de la LDH</a:t>
            </a:r>
            <a:r>
              <a:rPr b="0" lang="fr-CH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ff"/>
                </a:solidFill>
                <a:latin typeface="Arial"/>
              </a:rPr>
              <a:t>Neurone à l’état stationna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ff"/>
                </a:solidFill>
                <a:latin typeface="Arial"/>
              </a:rPr>
              <a:t>Aut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69080" y="38088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90b"/>
                </a:solidFill>
                <a:latin typeface="Arial"/>
              </a:rPr>
              <a:t> </a:t>
            </a:r>
            <a:r>
              <a:rPr b="0" lang="fr-CH" sz="3600" spc="-1" strike="noStrike">
                <a:solidFill>
                  <a:srgbClr val="fff90b"/>
                </a:solidFill>
                <a:latin typeface="Arial"/>
              </a:rPr>
              <a:t>Limit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Rectangle 67"/>
          <p:cNvGraphicFramePr/>
          <p:nvPr/>
        </p:nvGraphicFramePr>
        <p:xfrm>
          <a:off x="3886200" y="1447920"/>
          <a:ext cx="52578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Rectangle 6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447920"/>
                    <a:ext cx="52578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Conclusions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Expéri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Extension du modèle aux astr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Robustesse du modè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22320" y="380880"/>
            <a:ext cx="73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f90b"/>
                </a:solidFill>
                <a:latin typeface="Arial"/>
              </a:rPr>
              <a:t> </a:t>
            </a:r>
            <a:r>
              <a:rPr b="0" lang="fr-CH" sz="3600" spc="-1" strike="noStrike">
                <a:solidFill>
                  <a:srgbClr val="fff90b"/>
                </a:solidFill>
                <a:latin typeface="Arial"/>
              </a:rPr>
              <a:t>Prédictions et Exten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Conclusions généra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Avantages et inconvénients des méthodes analytiques et numériq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7600" indent="-32400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Analytiqu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Avantage : formule si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Désavantage : souvent, beaucoup d’hypothèses pour simplifier les calcu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Numériqu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Avantage : résolution de problèmes complex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Désavantage : il faut explorer l’espace des paramèt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Buts du proj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23619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-591480">
              <a:lnSpc>
                <a:spcPct val="9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Déterminer si le transport et/ou le métabolisme sont limitants pour le flux du glucose dans le neurone en se basant sur l’article de </a:t>
            </a:r>
            <a:r>
              <a:rPr b="0" i="1" lang="fr-CH" sz="2800" spc="-1" strike="noStrike">
                <a:solidFill>
                  <a:srgbClr val="ffffff"/>
                </a:solidFill>
                <a:latin typeface="Arial"/>
              </a:rPr>
              <a:t>Barros et 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99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9760" indent="-591480">
              <a:lnSpc>
                <a:spcPct val="9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Déterminer si le transport et/ou le métabolisme sont limitants pour le flux du lactate dans le neurone et faire des prédi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ce des connaiss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iques pour bien poser le problè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 de la collaboration entre biologistes 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iens/mathématici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Feed-back sur le cou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6600" indent="-33120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Utilisation d’outils mathématiques en biologie (Matla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6600" indent="-33120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Collaboration étroite entre scientifiques et étudia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6600" indent="-33120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Projets vari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6600" indent="-33120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Travail en groupe sur un projet concr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Remerci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71680" y="1676520"/>
            <a:ext cx="6286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Aitana Morton de Lachapel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Luc Peller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51240" y="407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5" name="Rectangle 67"/>
          <p:cNvGraphicFramePr/>
          <p:nvPr/>
        </p:nvGraphicFramePr>
        <p:xfrm>
          <a:off x="3809880" y="3733920"/>
          <a:ext cx="5143680" cy="28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Rectangle 6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733920"/>
                    <a:ext cx="5143680" cy="28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Introduction</a:t>
            </a:r>
            <a:br>
              <a:rPr sz="4000"/>
            </a:b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 biologique et mathématiqu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Aspects biologiq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320" y="25905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Deux substrats énergétiques principaux du cerveau : glucose et lac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ôle des astrocytes dans le métabolisme du lac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cc00"/>
                </a:solidFill>
                <a:latin typeface="Arial"/>
              </a:rPr>
              <a:t>Aspects biologiques</a:t>
            </a: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 d</a:t>
            </a:r>
            <a:r>
              <a:rPr b="0" lang="fr-CH" sz="4000" spc="-1" strike="noStrike">
                <a:solidFill>
                  <a:srgbClr val="99cc00"/>
                </a:solidFill>
                <a:latin typeface="Times New Roman"/>
              </a:rPr>
              <a:t>é</a:t>
            </a: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taill</a:t>
            </a:r>
            <a:r>
              <a:rPr b="0" lang="fr-CH" sz="4000" spc="-1" strike="noStrike">
                <a:solidFill>
                  <a:srgbClr val="99cc00"/>
                </a:solidFill>
                <a:latin typeface="Times New Roman"/>
              </a:rPr>
              <a:t>é</a:t>
            </a: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Inhaltsplatzhalter 5"/>
          <p:cNvGraphicFramePr/>
          <p:nvPr/>
        </p:nvGraphicFramePr>
        <p:xfrm>
          <a:off x="0" y="228600"/>
          <a:ext cx="914400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Inhaltsplatzhalt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Aspects mathématiq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71320" y="23619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800" spc="-1" strike="noStrike">
                <a:solidFill>
                  <a:srgbClr val="ffffff"/>
                </a:solidFill>
                <a:latin typeface="Arial"/>
              </a:rPr>
              <a:t>Qu’est-ce qu’une équation différentielle 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3200" spc="-1" strike="noStrike">
                <a:solidFill>
                  <a:srgbClr val="ffffff"/>
                </a:solidFill>
                <a:latin typeface="Arial"/>
              </a:rPr>
              <a:t>y' = ay + b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800" spc="-1" strike="noStrike">
                <a:solidFill>
                  <a:srgbClr val="ffffff"/>
                </a:solidFill>
                <a:latin typeface="Arial"/>
              </a:rPr>
              <a:t>Equations différentielles ordina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{dy \over dt} + f(t) y = 0 "/>
          <p:cNvPicPr/>
          <p:nvPr/>
        </p:nvPicPr>
        <p:blipFill>
          <a:blip r:embed="rId1"/>
          <a:stretch/>
        </p:blipFill>
        <p:spPr>
          <a:xfrm>
            <a:off x="2133720" y="4952880"/>
            <a:ext cx="2819160" cy="9334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378600" y="1143000"/>
            <a:ext cx="62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Equations différenti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5"/>
          <p:cNvSpPr/>
          <p:nvPr/>
        </p:nvSpPr>
        <p:spPr>
          <a:xfrm>
            <a:off x="571680" y="1905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352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ff"/>
                </a:solidFill>
                <a:latin typeface="Arial"/>
                <a:ea typeface="Osaka"/>
              </a:rPr>
              <a:t>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Osaka"/>
              </a:rPr>
              <a:t>x</a:t>
            </a:r>
            <a:r>
              <a:rPr b="0" lang="fr-CH" sz="2000" spc="-1" strike="noStrike">
                <a:solidFill>
                  <a:srgbClr val="ffffff"/>
                </a:solidFill>
                <a:latin typeface="Arial"/>
                <a:ea typeface="Osaka"/>
              </a:rPr>
              <a:t>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Osaka"/>
              </a:rPr>
              <a:t>mple:</a:t>
            </a:r>
            <a:r>
              <a:rPr b="0" lang="fr-CH" sz="2000" spc="-1" strike="noStrike">
                <a:solidFill>
                  <a:srgbClr val="ffffff"/>
                </a:solidFill>
                <a:latin typeface="Arial"/>
                <a:ea typeface="Osaka"/>
              </a:rPr>
              <a:t> production d’une protéine :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  <a:ea typeface="Osak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Osaka"/>
              </a:rPr>
              <a:t>dP/dt = a*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ccff33"/>
                </a:solidFill>
                <a:latin typeface="Arial"/>
                <a:ea typeface="Osaka"/>
              </a:rPr>
              <a:t>analytique                 numér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  <a:ea typeface="Osaka"/>
              </a:rPr>
              <a:t>                  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  <a:ea typeface="Osaka"/>
              </a:rPr>
              <a:t>P(t) = Po *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Osaka"/>
              </a:rPr>
              <a:t>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Arial"/>
                <a:ea typeface="Osaka"/>
              </a:rPr>
              <a:t>at</a:t>
            </a:r>
            <a:r>
              <a:rPr b="0" lang="fr-CH" sz="2400" spc="-1" strike="noStrike" baseline="30000">
                <a:solidFill>
                  <a:srgbClr val="ffffff"/>
                </a:solidFill>
                <a:latin typeface="Arial"/>
                <a:ea typeface="Osaka"/>
              </a:rPr>
              <a:t>           </a:t>
            </a:r>
            <a:r>
              <a:rPr b="0" lang="fr-CH" sz="2000" spc="-1" strike="noStrike">
                <a:solidFill>
                  <a:srgbClr val="ffffff"/>
                </a:solidFill>
                <a:latin typeface="Arial"/>
                <a:ea typeface="Osaka"/>
              </a:rPr>
              <a:t>pas de formu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 flipH="1">
            <a:off x="3580920" y="3048120"/>
            <a:ext cx="762120" cy="9144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4800600" y="3048120"/>
            <a:ext cx="685800" cy="9144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Object 8"/>
          <p:cNvGraphicFramePr/>
          <p:nvPr/>
        </p:nvGraphicFramePr>
        <p:xfrm>
          <a:off x="762120" y="4602240"/>
          <a:ext cx="3581280" cy="233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602240"/>
                    <a:ext cx="358128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9"/>
          <p:cNvGraphicFramePr/>
          <p:nvPr/>
        </p:nvGraphicFramePr>
        <p:xfrm>
          <a:off x="5257800" y="4578480"/>
          <a:ext cx="3581280" cy="2355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4578480"/>
                    <a:ext cx="358128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57168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  <a:ea typeface="Osaka"/>
              </a:rPr>
              <a:t>Aspects mathématiq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93120" y="121932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90b"/>
                </a:solidFill>
                <a:latin typeface="Arial"/>
              </a:rPr>
              <a:t>Résolution analytique ou numériq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34360" y="3801960"/>
            <a:ext cx="330660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(résolution à chaque temp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à l’aide du temps précédent)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Projet sur le glucose</a:t>
            </a:r>
            <a:br>
              <a:rPr sz="4000"/>
            </a:b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(basé sur </a:t>
            </a:r>
            <a:r>
              <a:rPr b="0" i="1" lang="fr-CH" sz="4000" spc="-1" strike="noStrike">
                <a:solidFill>
                  <a:srgbClr val="99cc00"/>
                </a:solidFill>
                <a:latin typeface="Arial"/>
              </a:rPr>
              <a:t>Barros et al</a:t>
            </a:r>
            <a:r>
              <a:rPr b="0" lang="fr-CH" sz="4000" spc="-1" strike="noStrike">
                <a:solidFill>
                  <a:srgbClr val="99cc00"/>
                </a:solidFill>
                <a:latin typeface="Arial"/>
              </a:rPr>
              <a:t>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1:11:39Z</dcterms:created>
  <dc:creator>unil</dc:creator>
  <dc:description/>
  <dc:language>en-US</dc:language>
  <cp:lastModifiedBy>Idrizi Bilall Elita</cp:lastModifiedBy>
  <dcterms:modified xsi:type="dcterms:W3CDTF">2009-05-28T17:06:30Z</dcterms:modified>
  <cp:revision>131</cp:revision>
  <dc:subject/>
  <dc:title>Neuroenergetics</dc:title>
</cp:coreProperties>
</file>